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42.jpeg" ContentType="image/jpeg"/>
  <Override PartName="/ppt/media/image58.jpeg" ContentType="image/jpeg"/>
  <Override PartName="/ppt/media/image73.png" ContentType="image/png"/>
  <Override PartName="/ppt/media/image56.png" ContentType="image/png"/>
  <Override PartName="/ppt/media/image1.wmf" ContentType="image/x-wmf"/>
  <Override PartName="/ppt/media/image55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4.png" ContentType="image/png"/>
  <Override PartName="/ppt/media/image76.jpeg" ContentType="image/jpeg"/>
  <Override PartName="/ppt/media/image41.jpeg" ContentType="image/jpeg"/>
  <Override PartName="/ppt/media/image32.png" ContentType="image/png"/>
  <Override PartName="/ppt/media/image15.jpeg" ContentType="image/jpeg"/>
  <Override PartName="/ppt/media/image49.jpeg" ContentType="image/jpeg"/>
  <Override PartName="/ppt/media/image51.jpeg" ContentType="image/jpeg"/>
  <Override PartName="/ppt/media/image25.png" ContentType="image/png"/>
  <Override PartName="/ppt/media/image19.jpeg" ContentType="image/jpeg"/>
  <Override PartName="/ppt/media/image57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3.jpeg" ContentType="image/jpeg"/>
  <Override PartName="/ppt/media/image77.png" ContentType="image/png"/>
  <Override PartName="/ppt/media/image61.jpeg" ContentType="image/jpeg"/>
  <Override PartName="/ppt/media/image40.png" ContentType="image/png"/>
  <Override PartName="/ppt/media/image64.jpeg" ContentType="image/jpeg"/>
  <Override PartName="/ppt/media/image38.jpeg" ContentType="image/jpeg"/>
  <Override PartName="/ppt/media/image75.png" ContentType="image/pn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71.jpeg" ContentType="image/jpeg"/>
  <Override PartName="/ppt/media/image66.jpeg" ContentType="image/jpeg"/>
  <Override PartName="/ppt/media/image69.jpeg" ContentType="image/jpeg"/>
  <Override PartName="/ppt/media/image68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67.jpeg" ContentType="image/jpeg"/>
  <Override PartName="/ppt/media/image63.jpeg" ContentType="image/jpeg"/>
  <Override PartName="/ppt/media/image60.jpeg" ContentType="image/jpeg"/>
  <Override PartName="/ppt/media/image20.png" ContentType="image/png"/>
  <Override PartName="/ppt/media/image37.jpeg" ContentType="image/jpeg"/>
  <Override PartName="/ppt/media/image3.png" ContentType="image/png"/>
  <Override PartName="/ppt/media/image16.png" ContentType="image/png"/>
  <Override PartName="/ppt/media/image4.png" ContentType="image/png"/>
  <Override PartName="/ppt/media/image74.jpeg" ContentType="image/jpeg"/>
  <Override PartName="/ppt/media/image34.png" ContentType="image/png"/>
  <Override PartName="/ppt/media/image13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62.jpeg" ContentType="image/jpeg"/>
  <Override PartName="/ppt/media/image7.png" ContentType="image/png"/>
  <Override PartName="/ppt/media/image9.png" ContentType="image/pn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A5C9-BBCF-43DD-BFB2-68ACF119B4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E7D7-F33D-487C-A96D-4CA808F6288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Античные образы в музыкальной культу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ыполн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ригорьева Анна, ученица 8 «б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Маслова Дарья, ученица   8 «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уководитель: Смирнова Е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56F0-C3A1-4642-83B1-1B1FE032410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6EAB-47F3-405E-806F-79888228211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Классификация видов античного музыкального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5136-3579-4E87-94D2-2DDFDB5AC03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Фолькл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одное песенно-поэтическое творче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нцы  с предста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 на народных инструмен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рчество жриц и жрецов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8192-A68E-49B6-9251-A8FB73C532D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Храмовое искус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Фольклорно-мифологические былины, оды и кодак; мелоды Ефрема Сирина; песни Гомера, одическая хоровая поэзия Пиндара, песни Ахилла из «Иллады», песни аэдов Демодока из «Одиссее», про опера Франческо Каваллии «Дидона и Эней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217D-FC7B-46CD-A879-BEE9A808D0B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ворцовое искус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ветские произведения под аккомпанемент лиры, труб, орг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роизведения: элегии Тиртея, песнопения Зевсу в Олимпии, гимны Афродите, оды Апполону, псалмы и молитвы Давида искусно владеющий своим голосом и арфой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: античное музыкальное искусство носило зрелищно-развлек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9768-DBCC-42AC-B622-091F94F8641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65FA-60A2-45A5-9AD7-AF00DBD4E8B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ервая опера 1597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тальянский композитор Якопо П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AE7C-0081-462B-9BCA-D7213870315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Композ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9D4D-850A-41DB-89A5-74DF4F0E0C2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разы отражают  следующие 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ные явления и 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Жизнь людей, причины их счастлив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 жалкого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агробное царство и конец 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32F4-AB17-45C4-8F58-7ECA599E1BF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ратория И. Гайдна «Сотворение мир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. Нильс балет «Музы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. Бизе оркестровая симфония Ри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агнер опера «Закат Богов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13C4-C081-473F-8F22-A2D468EEC0E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огда слышу, как говорят о добродетели или мудрости человека, который сам вполне соответствует тому, что он говорит, я чрезвычайно радуюсь, и, такой человек кажется мне поистине музыкальным. Потому, что он извлекает прекраснейшую гармонию не из лиры или еще какого-либо орудия игры, а из самой жизни, согласив в себе слова с делами по образу единой эллинской гарм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E399-4BEB-4780-887C-2EF86DBDA43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Природные явления и 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леман Жанекен хоровая кантата «Пени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тиц»,  Скарлатти опера «Нарцисс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фортепианные пьесы Ф.Шумана «Карнавал»,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Танцы давидсбюндлеров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9654-02EA-45FB-9FEF-07CCB5D227D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Жизнь людей, причины их счастливого и жалкого суще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А.И.Хачатурян «Спартак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имфония А. Скрябина «Прометей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А.Г. Рубинштейн «Нерон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4551-1B78-4F5F-8988-B3A34E119E9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Загробное царство и конец 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А. Журбина «Орфей и Эвридик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 А. Глюка «Орфей и Эврид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мадригал Дхезуальдо Джеминозо «Скорбящая радость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баллада «Девушка и смерть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 М. Дариус «Несчастья Орфе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ые образы – это  жизнь мифологических и реальных человеческих характеров, которые рождаются и умирают, любят и ненавидят, радуются и печал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еследует судьбоносный рок, что является важнейшим достижением  культуры древнего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586C-5543-44AD-B2E8-0C7C4B850B4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  античного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D946-5B7E-4AC5-83B8-71773AD05FF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3100-3DD0-48E3-9BF3-C10D2E539E6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Авгиевы конюшн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Ахиллесова пя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Содом и Гомор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Взгляд Горгон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Танталовы му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Геростратова сла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Все в Тартарар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Кануло в лету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EA00-E4D0-4BE9-96B6-FC14B3910BD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ывод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*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европейская культура, в том виде, в котором знакомы с ней современные люди во многом обязаны Греко-Римским корн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красочность античной музыкальной культуры, разнообразие и яркость образов, была и осталась вечной школой композиторов и музыкантов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музыкальные образы наделены антропоморфизмом, высокой художественностью, искренностью, правдивостью, оказывают большую эстетическую и воспитательную 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продолжение этой темы мы видим в постановках опер,  оперетт, балетов, мюзиклов и других музыкальных жанров в самых крупных театрах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 проведение международных Дельфийских игр, где выступают лучшие творческие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B846-E17A-472A-ABCE-3FA918F9C88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идоров Денис - вокал (дипломан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ригорьева Анна – изобразительная деятельность (3 мест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и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кетирование среди восьм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3 обучающих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античность? - знают 35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музыкальные произведения вы знае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этот вопрос ответили всего12 человек, наиболее знакомые произведения – «Спартак», «Клеопатра», «Муз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музыкальные произведения вы слушали?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шали «Спартак» -6чел., «Орфей и Эвридика» - 4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ели бы посетить театр и посмотреть постановку на античную тем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- ответили 20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BA85-88F4-4D9B-AD34-7AFE7A11FDA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стотель. Поэтика //Аристотель. Сочинения в 4 т.- М.,1983г.- т.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афьев Б. «Об изучении музыки средневековья». Новое время Л.,198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нфельд М. «Введение в музыкознание» М.,Владос-200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еобщая история зарубежной музыки»-М.,Просвещение,198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дер И. «Идеи и философии теории человечества»М.,Наука,1977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 Е. «Античное музыкальное мышление»-Л.,198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Е. «Античная музыкальная педагогика»- Спб.1996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 Е «Музыка Древней Греции и Рима» -Спб 199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бер Р. «Всеобщая история музыки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,Музгиз, 1960г,196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усейнов А. «Античная эстетика» М.,Гардарики-2004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ьберквит М. « Мир музыки»//Дет. Лит. М.-198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лдыш В.Г. «Музыкальный энциклопедический словарь» М.,199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сев А.Ф. «Античная музыкальная эстетика»//Вступит. очерк и собр.текстов М-196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сев А.Ф. «Вступительная статья»//Плутарх. Морали- М.,196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тлик Р. «Античные легенды и сказания» -М.199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с К. Энгельс Ф. «Сочинения»т 1,12,М.,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льная культура древнего мира //Сб. статей под ред.Р.ГубераЛ.1937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бакина Е.Уколов В. «Музыка в потоке времени»- М.,198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хвидин П. « Мировая художественная культура» М.,Новая школа199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43CD-242A-442F-B6EB-A12F4BB4C8D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EFDC-91EA-487B-8E01-71A29192E5E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Цель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и задачи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ассмотреть истоки античной музыки, описать характерные особенности музыкального искусства и музыкальных образов античного пери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оказать, что человек с древних времен тянулся к  музы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ыяснить, как «рождались» и «умирали» музыкальные образы и что осталось веч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1BA2-B878-485F-BA94-80B179D39D7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ивительная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ла  музы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45E6-F1D2-4E2A-9104-A4D9A517A97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Р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Гре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льно-драматические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представления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72A7-2654-4E7D-B991-80FDF3E9149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34F4-BE0A-49A0-8894-5CCB79053C2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B340-262F-4670-8421-8D3B368D8F8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4781-C53C-4868-96BA-09A343F4BC6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42F6-328D-41ED-A5DF-94675145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FF00-E31F-447E-BF61-33537316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059-5D8F-4119-8283-86EEA53D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238-2910-424F-A2B3-BBEFA1E8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A2D2-2252-4329-B255-E2924F16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5B3F-A174-4CE7-BD4C-39CF625D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B817-0F70-47B9-A6E9-E81A033B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BD7F-EC85-475A-9D0D-41946425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B657-7DD3-4114-8F3D-CE7F728F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2377-F58F-4C03-9F88-B3D3F90F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2E4A-4B55-42C4-B55A-7BE9484C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4F9-F463-4783-920D-C119BD05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59E3-DE05-4162-B925-0A4972B3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7E96-6756-4871-8F37-343A88DA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4B3E-9366-4A2D-AB30-67520A9D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A830-9A9F-44E0-B661-72D067D9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A1C3-175E-4328-8DC4-BD8766AD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F92-D476-4247-845D-9C3FBBBB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5C3-4272-4292-ACB7-F99D3337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67A-7AA7-435C-89FB-D2CF2163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060C-7572-48E9-8876-48EE97A6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972-C69D-4BDF-A579-E22AAFFE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FB67-A84F-4C57-96CA-FED0273F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3368-D377-43AA-AA7A-535E3323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4212-788E-4B7C-B148-CF58B90781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E30D-53B0-4AD8-93C0-059B1444561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11.xml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png"/><Relationship Id="rId5" Type="http://schemas.openxmlformats.org/officeDocument/2006/relationships/image" Target="../media/image7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7.png"/><Relationship Id="rId3" Type="http://schemas.openxmlformats.org/officeDocument/2006/relationships/image" Target="../media/image77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69660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Античные образы в музыкальной культур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27280" y="3645000"/>
            <a:ext cx="489096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полнил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ригорьева Анна, ученица 8 «б»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Маслова Дарья, ученица   8 «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уководитель: Смирнова Е.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24" descr="Grecia"/>
          <p:cNvPicPr/>
          <p:nvPr/>
        </p:nvPicPr>
        <p:blipFill>
          <a:blip r:embed="rId1">
            <a:lum bright="-12000"/>
          </a:blip>
          <a:srcRect l="0" t="0" r="0" b="9284"/>
          <a:stretch/>
        </p:blipFill>
        <p:spPr>
          <a:xfrm>
            <a:off x="539640" y="3573360"/>
            <a:ext cx="2170080" cy="2952720"/>
          </a:xfrm>
          <a:prstGeom prst="rect">
            <a:avLst/>
          </a:prstGeom>
          <a:ln w="0">
            <a:noFill/>
          </a:ln>
        </p:spPr>
      </p:pic>
      <p:pic>
        <p:nvPicPr>
          <p:cNvPr id="202" name="Классическая музыка_-_в тему.mp3" descr=""/>
          <p:cNvPicPr/>
          <p:nvPr/>
        </p:nvPicPr>
        <p:blipFill>
          <a:blip r:embed="rId2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7"/>
          <p:cNvSpPr/>
          <p:nvPr/>
        </p:nvSpPr>
        <p:spPr>
          <a:xfrm>
            <a:off x="3255840" y="573408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ОУ лицей №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. Тутае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03a"/>
          <p:cNvPicPr/>
          <p:nvPr/>
        </p:nvPicPr>
        <p:blipFill>
          <a:blip r:embed="rId1"/>
          <a:stretch/>
        </p:blipFill>
        <p:spPr>
          <a:xfrm>
            <a:off x="179280" y="692280"/>
            <a:ext cx="4505400" cy="5195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834-13"/>
          <p:cNvPicPr/>
          <p:nvPr/>
        </p:nvPicPr>
        <p:blipFill>
          <a:blip r:embed="rId2"/>
          <a:stretch/>
        </p:blipFill>
        <p:spPr>
          <a:xfrm>
            <a:off x="4788000" y="981000"/>
            <a:ext cx="2881080" cy="1933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лады"/>
          <p:cNvPicPr/>
          <p:nvPr/>
        </p:nvPicPr>
        <p:blipFill>
          <a:blip r:embed="rId3"/>
          <a:stretch/>
        </p:blipFill>
        <p:spPr>
          <a:xfrm>
            <a:off x="4859280" y="3573360"/>
            <a:ext cx="2737080" cy="1366920"/>
          </a:xfrm>
          <a:prstGeom prst="rect">
            <a:avLst/>
          </a:prstGeom>
          <a:ln w="0">
            <a:noFill/>
          </a:ln>
        </p:spPr>
      </p:pic>
      <p:pic>
        <p:nvPicPr>
          <p:cNvPr id="249" name="Глюк–Сгамбати, Мелодия из «Орфея и Эвридики».mp3" descr=""/>
          <p:cNvPicPr/>
          <p:nvPr/>
        </p:nvPicPr>
        <p:blipFill>
          <a:blip r:embed="rId4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Классификация видов античного музыкального искусс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WordArt 4"/>
          <p:cNvSpPr txBox="1"/>
          <p:nvPr/>
        </p:nvSpPr>
        <p:spPr>
          <a:xfrm>
            <a:off x="468360" y="3141720"/>
            <a:ext cx="22320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Фолькл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3" name="Line 6"/>
          <p:cNvSpPr/>
          <p:nvPr/>
        </p:nvSpPr>
        <p:spPr>
          <a:xfrm flipH="1">
            <a:off x="1907640" y="1989000"/>
            <a:ext cx="1008360" cy="1152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WordArt 7"/>
          <p:cNvSpPr txBox="1"/>
          <p:nvPr/>
        </p:nvSpPr>
        <p:spPr>
          <a:xfrm>
            <a:off x="4500720" y="3141720"/>
            <a:ext cx="302400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Храмовое искус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5364000" y="1773360"/>
            <a:ext cx="1081080" cy="143964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WordArt 9"/>
          <p:cNvSpPr txBox="1"/>
          <p:nvPr/>
        </p:nvSpPr>
        <p:spPr>
          <a:xfrm>
            <a:off x="1979640" y="4437000"/>
            <a:ext cx="4248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Дворцовое искус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4140360" y="1989000"/>
            <a:ext cx="0" cy="24480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AutoShape 11">
            <a:hlinkClick r:id="rId1" action="ppaction://hlinksldjump"/>
          </p:cNvPr>
          <p:cNvSpPr/>
          <p:nvPr/>
        </p:nvSpPr>
        <p:spPr>
          <a:xfrm>
            <a:off x="7164360" y="630864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788364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родное песенно-поэтическое творчество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нцы  с представление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гра на народных инструмент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ворчество жриц и жрецов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AutoShape 4">
            <a:hlinkClick r:id="rId1" action="ppaction://hlinksldjump"/>
          </p:cNvPr>
          <p:cNvSpPr/>
          <p:nvPr/>
        </p:nvSpPr>
        <p:spPr>
          <a:xfrm>
            <a:off x="7093080" y="6453360"/>
            <a:ext cx="615960" cy="198360"/>
          </a:xfrm>
          <a:prstGeom prst="leftArrow">
            <a:avLst>
              <a:gd name="adj1" fmla="val 50000"/>
              <a:gd name="adj2" fmla="val 77632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2" name="Picture 13" descr="307-Ornament-Ancient-Music-q75-386x500"/>
          <p:cNvPicPr/>
          <p:nvPr/>
        </p:nvPicPr>
        <p:blipFill>
          <a:blip r:embed="rId2"/>
          <a:stretch/>
        </p:blipFill>
        <p:spPr>
          <a:xfrm>
            <a:off x="468360" y="3213000"/>
            <a:ext cx="3095640" cy="3429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ancient-music-playing-1"/>
          <p:cNvPicPr/>
          <p:nvPr/>
        </p:nvPicPr>
        <p:blipFill>
          <a:blip r:embed="rId3"/>
          <a:stretch/>
        </p:blipFill>
        <p:spPr>
          <a:xfrm>
            <a:off x="3924360" y="3376440"/>
            <a:ext cx="2592360" cy="3481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0" descr="ancient-music-playing-2"/>
          <p:cNvPicPr/>
          <p:nvPr/>
        </p:nvPicPr>
        <p:blipFill>
          <a:blip r:embed="rId4"/>
          <a:stretch/>
        </p:blipFill>
        <p:spPr>
          <a:xfrm>
            <a:off x="5508720" y="1700280"/>
            <a:ext cx="2200320" cy="3009960"/>
          </a:xfrm>
          <a:prstGeom prst="rect">
            <a:avLst/>
          </a:prstGeom>
          <a:ln w="0">
            <a:noFill/>
          </a:ln>
        </p:spPr>
      </p:pic>
      <p:sp>
        <p:nvSpPr>
          <p:cNvPr id="265" name="WordArt 21"/>
          <p:cNvSpPr txBox="1"/>
          <p:nvPr/>
        </p:nvSpPr>
        <p:spPr>
          <a:xfrm>
            <a:off x="1908000" y="333360"/>
            <a:ext cx="42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ольклор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691920"/>
            <a:ext cx="747684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9af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8" name="Picture 4" descr="gomer"/>
          <p:cNvPicPr/>
          <p:nvPr/>
        </p:nvPicPr>
        <p:blipFill>
          <a:blip r:embed="rId1"/>
          <a:stretch/>
        </p:blipFill>
        <p:spPr>
          <a:xfrm>
            <a:off x="61920" y="260280"/>
            <a:ext cx="1328760" cy="1513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ахилл">
            <a:hlinkClick r:id="rId2" action="ppaction://hlinksldjump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651640" y="4508640"/>
            <a:ext cx="2068200" cy="21445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6"/>
          <p:cNvSpPr/>
          <p:nvPr/>
        </p:nvSpPr>
        <p:spPr>
          <a:xfrm>
            <a:off x="755640" y="1773360"/>
            <a:ext cx="6769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Фольклорно-мифологические былины, оды и кодак; мелоды Ефрема Сирина; песни Гомера, одическая хоровая поэзия Пиндара, песни Ахилла из «Иллады», песни аэдов Демодока из «Одиссее», про опера Франческо Каваллии «Дидона и Эней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1" name="Picture 10" descr="b_13796"/>
          <p:cNvPicPr/>
          <p:nvPr/>
        </p:nvPicPr>
        <p:blipFill>
          <a:blip r:embed="rId4"/>
          <a:stretch/>
        </p:blipFill>
        <p:spPr>
          <a:xfrm>
            <a:off x="324000" y="4122720"/>
            <a:ext cx="3887640" cy="2546280"/>
          </a:xfrm>
          <a:prstGeom prst="rect">
            <a:avLst/>
          </a:prstGeom>
          <a:ln w="0">
            <a:noFill/>
          </a:ln>
        </p:spPr>
      </p:pic>
      <p:sp>
        <p:nvSpPr>
          <p:cNvPr id="272" name="WordArt 11"/>
          <p:cNvSpPr txBox="1"/>
          <p:nvPr/>
        </p:nvSpPr>
        <p:spPr>
          <a:xfrm>
            <a:off x="1692360" y="549360"/>
            <a:ext cx="51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Храмовое искусств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692000" y="1557360"/>
            <a:ext cx="583236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ветские произведения под аккомпанемент лиры, труб, орга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роизведения: элегии Тиртея, песнопения Зевсу в Олимпии, гимны Афродите, оды Апполону, псалмы и молитвы Давида искусно владеющий своим голосом и арфой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5" name="Picture 7" descr="ancient-music-playing-3"/>
          <p:cNvPicPr/>
          <p:nvPr/>
        </p:nvPicPr>
        <p:blipFill>
          <a:blip r:embed="rId1"/>
          <a:stretch/>
        </p:blipFill>
        <p:spPr>
          <a:xfrm>
            <a:off x="0" y="1557360"/>
            <a:ext cx="1800360" cy="4468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гарострат"/>
          <p:cNvPicPr/>
          <p:nvPr/>
        </p:nvPicPr>
        <p:blipFill>
          <a:blip r:embed="rId2"/>
          <a:stretch/>
        </p:blipFill>
        <p:spPr>
          <a:xfrm>
            <a:off x="4643280" y="3860640"/>
            <a:ext cx="2521080" cy="2708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орган"/>
          <p:cNvPicPr/>
          <p:nvPr/>
        </p:nvPicPr>
        <p:blipFill>
          <a:blip r:embed="rId3"/>
          <a:stretch/>
        </p:blipFill>
        <p:spPr>
          <a:xfrm>
            <a:off x="1979640" y="4076640"/>
            <a:ext cx="2362320" cy="2637000"/>
          </a:xfrm>
          <a:prstGeom prst="rect">
            <a:avLst/>
          </a:prstGeom>
          <a:ln w="0">
            <a:noFill/>
          </a:ln>
        </p:spPr>
      </p:pic>
      <p:sp>
        <p:nvSpPr>
          <p:cNvPr id="278" name="WordArt 13"/>
          <p:cNvSpPr txBox="1"/>
          <p:nvPr/>
        </p:nvSpPr>
        <p:spPr>
          <a:xfrm>
            <a:off x="1619280" y="404640"/>
            <a:ext cx="540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ворцовое искусств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ывод: античное музыкальное искусство носило зрелищно-развлекательный характер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2" name="Picture 4" descr="49c5e061b77b"/>
          <p:cNvPicPr/>
          <p:nvPr/>
        </p:nvPicPr>
        <p:blipFill>
          <a:blip r:embed="rId1"/>
          <a:stretch/>
        </p:blipFill>
        <p:spPr>
          <a:xfrm>
            <a:off x="0" y="1773360"/>
            <a:ext cx="7740720" cy="48956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-324000" y="5877000"/>
            <a:ext cx="8569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5" name="Picture 7" descr="Картинка 16 из 39"/>
          <p:cNvPicPr/>
          <p:nvPr/>
        </p:nvPicPr>
        <p:blipFill>
          <a:blip r:embed="rId1"/>
          <a:stretch/>
        </p:blipFill>
        <p:spPr>
          <a:xfrm>
            <a:off x="3780000" y="2205000"/>
            <a:ext cx="3708360" cy="31910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Картинка 1 из 6"/>
          <p:cNvPicPr/>
          <p:nvPr/>
        </p:nvPicPr>
        <p:blipFill>
          <a:blip r:embed="rId2"/>
          <a:stretch/>
        </p:blipFill>
        <p:spPr>
          <a:xfrm>
            <a:off x="395280" y="1341360"/>
            <a:ext cx="2941560" cy="4032360"/>
          </a:xfrm>
          <a:prstGeom prst="rect">
            <a:avLst/>
          </a:prstGeom>
          <a:ln w="0">
            <a:noFill/>
          </a:ln>
        </p:spPr>
      </p:pic>
      <p:sp>
        <p:nvSpPr>
          <p:cNvPr id="287" name="WordArt 12"/>
          <p:cNvSpPr txBox="1"/>
          <p:nvPr/>
        </p:nvSpPr>
        <p:spPr>
          <a:xfrm>
            <a:off x="1547640" y="404640"/>
            <a:ext cx="4972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вая опера 1597 го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WordArt 14"/>
          <p:cNvSpPr txBox="1"/>
          <p:nvPr/>
        </p:nvSpPr>
        <p:spPr>
          <a:xfrm>
            <a:off x="4788000" y="119700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5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Дафн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9" name="WordArt 16"/>
          <p:cNvSpPr txBox="1"/>
          <p:nvPr/>
        </p:nvSpPr>
        <p:spPr>
          <a:xfrm>
            <a:off x="395280" y="558972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альянский композитор Якопо Пер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Композито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2" name="Picture 4" descr="O35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95280" y="4005360"/>
            <a:ext cx="1706400" cy="2160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Картинка 11 из 11946"/>
          <p:cNvPicPr/>
          <p:nvPr/>
        </p:nvPicPr>
        <p:blipFill>
          <a:blip r:embed="rId2"/>
          <a:stretch/>
        </p:blipFill>
        <p:spPr>
          <a:xfrm>
            <a:off x="2944800" y="1052640"/>
            <a:ext cx="1946160" cy="23050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9"/>
          <p:cNvSpPr/>
          <p:nvPr/>
        </p:nvSpPr>
        <p:spPr>
          <a:xfrm>
            <a:off x="0" y="6165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И. Хачатуря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3132000" y="3357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 Глю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6" name="Picture 12" descr="Картинка 3 из 27732"/>
          <p:cNvPicPr/>
          <p:nvPr/>
        </p:nvPicPr>
        <p:blipFill>
          <a:blip r:embed="rId3"/>
          <a:stretch/>
        </p:blipFill>
        <p:spPr>
          <a:xfrm>
            <a:off x="5435640" y="1125360"/>
            <a:ext cx="1835280" cy="22323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3"/>
          <p:cNvSpPr/>
          <p:nvPr/>
        </p:nvSpPr>
        <p:spPr>
          <a:xfrm>
            <a:off x="5508720" y="3357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С.Ба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8" name="Picture 15" descr="Картинка 1 из 251"/>
          <p:cNvPicPr/>
          <p:nvPr/>
        </p:nvPicPr>
        <p:blipFill>
          <a:blip r:embed="rId4"/>
          <a:stretch/>
        </p:blipFill>
        <p:spPr>
          <a:xfrm>
            <a:off x="5681520" y="4005360"/>
            <a:ext cx="1470240" cy="21603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6"/>
          <p:cNvSpPr/>
          <p:nvPr/>
        </p:nvSpPr>
        <p:spPr>
          <a:xfrm>
            <a:off x="500364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Ф. Стравинс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0" name="Picture 18" descr="Картинка 7 из 15326"/>
          <p:cNvPicPr/>
          <p:nvPr/>
        </p:nvPicPr>
        <p:blipFill>
          <a:blip r:embed="rId5"/>
          <a:stretch/>
        </p:blipFill>
        <p:spPr>
          <a:xfrm>
            <a:off x="324000" y="1052640"/>
            <a:ext cx="1885680" cy="23050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9"/>
          <p:cNvSpPr/>
          <p:nvPr/>
        </p:nvSpPr>
        <p:spPr>
          <a:xfrm>
            <a:off x="32400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.Вагне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2" name="Picture 21" descr="Картинка 15 из 139"/>
          <p:cNvPicPr/>
          <p:nvPr/>
        </p:nvPicPr>
        <p:blipFill>
          <a:blip r:embed="rId6"/>
          <a:stretch/>
        </p:blipFill>
        <p:spPr>
          <a:xfrm>
            <a:off x="2987640" y="4005360"/>
            <a:ext cx="1665360" cy="21603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22"/>
          <p:cNvSpPr/>
          <p:nvPr/>
        </p:nvSpPr>
        <p:spPr>
          <a:xfrm>
            <a:off x="2843280" y="6165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Журби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1116000" y="177336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1116000" y="24210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Природные явления и живот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Rectangle 18"/>
          <p:cNvSpPr/>
          <p:nvPr/>
        </p:nvSpPr>
        <p:spPr>
          <a:xfrm>
            <a:off x="1184400" y="3068640"/>
            <a:ext cx="581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Жизнь людей, причины их счастливог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и жалкого существова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1187280" y="393372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Загробное царство и конец Све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AutoShape 22"/>
          <p:cNvSpPr/>
          <p:nvPr/>
        </p:nvSpPr>
        <p:spPr>
          <a:xfrm>
            <a:off x="6659640" y="609300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0" name="Picture 24" descr="театр аполлона"/>
          <p:cNvPicPr/>
          <p:nvPr/>
        </p:nvPicPr>
        <p:blipFill>
          <a:blip r:embed="rId1"/>
          <a:stretch/>
        </p:blipFill>
        <p:spPr>
          <a:xfrm>
            <a:off x="1042920" y="4508640"/>
            <a:ext cx="5400720" cy="2160360"/>
          </a:xfrm>
          <a:prstGeom prst="rect">
            <a:avLst/>
          </a:prstGeom>
          <a:ln w="0">
            <a:noFill/>
          </a:ln>
        </p:spPr>
      </p:pic>
      <p:sp>
        <p:nvSpPr>
          <p:cNvPr id="311" name="WordArt 25"/>
          <p:cNvSpPr txBox="1"/>
          <p:nvPr/>
        </p:nvSpPr>
        <p:spPr>
          <a:xfrm>
            <a:off x="539640" y="549360"/>
            <a:ext cx="6912000" cy="318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036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разы отражают  следующие те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7920" y="252360"/>
            <a:ext cx="7211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386840" cy="20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ратория И. Гайдна «Сотворение мира»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. Нильс балет «Музы»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Д. Бизе оркестровая симфония Рим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агнер опера «Закат Богов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5" name="Picture 4" descr="12-25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500720" y="3860640"/>
            <a:ext cx="3025440" cy="2187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слева на право Агаменон Ахил Гектор Аякс Нестор Одисей Диоменд Манелай Эней"/>
          <p:cNvPicPr/>
          <p:nvPr/>
        </p:nvPicPr>
        <p:blipFill>
          <a:blip r:embed="rId2"/>
          <a:srcRect l="4971" t="0" r="0" b="0"/>
          <a:stretch/>
        </p:blipFill>
        <p:spPr>
          <a:xfrm>
            <a:off x="755640" y="3727440"/>
            <a:ext cx="3095640" cy="272268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907640" y="1052280"/>
            <a:ext cx="576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Когда слышу, как говорят о добродетели или мудрости человека, который сам вполне соответствует тому, что он говорит, я чрезвычайно радуюсь, и, такой человек кажется мне поистине музыкальным. Потому, что он извлекает прекраснейшую гармонию не из лиры или еще какого-либо орудия игры, а из самой жизни, согласив в себе слова с делами по образу единой эллинской гармон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796000" y="5661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лато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6" descr="1pic-8a"/>
          <p:cNvPicPr/>
          <p:nvPr/>
        </p:nvPicPr>
        <p:blipFill>
          <a:blip r:embed="rId1">
            <a:lum bright="-6000"/>
          </a:blip>
          <a:srcRect l="0" t="0" r="46398" b="0"/>
          <a:stretch/>
        </p:blipFill>
        <p:spPr>
          <a:xfrm>
            <a:off x="324000" y="981000"/>
            <a:ext cx="1734840" cy="42372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Arial"/>
              </a:rPr>
              <a:t>Природные явления и животны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738648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Клеман Жанекен хоровая кантата «Пение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тиц»,  Скарлатти опера «Нарцисс»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фортепианные пьесы Ф.Шумана «Карнавал»,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Танцы давидсбюндлеров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0" name="Picture 4" descr="арцис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932360" y="3141720"/>
            <a:ext cx="2289240" cy="27748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0_2fd61_db51811d_XL"/>
          <p:cNvPicPr/>
          <p:nvPr/>
        </p:nvPicPr>
        <p:blipFill>
          <a:blip r:embed="rId2"/>
          <a:stretch/>
        </p:blipFill>
        <p:spPr>
          <a:xfrm>
            <a:off x="324000" y="3141720"/>
            <a:ext cx="4103640" cy="352728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71600" y="1987560"/>
            <a:ext cx="71164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И.Хачатурян «Спартак»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имфония А. Скрябина «Прометей»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Г. Рубинштейн «Нерон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4" name="Picture 4" descr="spartak_balet"/>
          <p:cNvPicPr/>
          <p:nvPr/>
        </p:nvPicPr>
        <p:blipFill>
          <a:blip r:embed="rId1"/>
          <a:stretch/>
        </p:blipFill>
        <p:spPr>
          <a:xfrm>
            <a:off x="611280" y="3789360"/>
            <a:ext cx="3311280" cy="2414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mercury01"/>
          <p:cNvPicPr/>
          <p:nvPr/>
        </p:nvPicPr>
        <p:blipFill>
          <a:blip r:embed="rId2"/>
          <a:stretch/>
        </p:blipFill>
        <p:spPr>
          <a:xfrm>
            <a:off x="4211640" y="4221000"/>
            <a:ext cx="3095640" cy="24116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367920" y="316080"/>
            <a:ext cx="722628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Arial"/>
              </a:rPr>
              <a:t>Жизнь людей, причины их счастливого и жалкого существова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7" name="Picture 10" descr="img175"/>
          <p:cNvPicPr/>
          <p:nvPr/>
        </p:nvPicPr>
        <p:blipFill>
          <a:blip r:embed="rId3"/>
          <a:stretch/>
        </p:blipFill>
        <p:spPr>
          <a:xfrm>
            <a:off x="6084720" y="1341360"/>
            <a:ext cx="1656000" cy="23749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Загробное царство и конец Све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А. Журбина «Орфей и Эвридика»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 А. Глюка «Орфей и Эвридика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мадригал Дхезуальдо Джеминозо «Скорбящая радость»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баллада «Девушка и смерть»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 М. Дариус «Несчастья Орфея» и др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1" name="Picture 4" descr="rep_orfey_i_evredika06_b"/>
          <p:cNvPicPr/>
          <p:nvPr/>
        </p:nvPicPr>
        <p:blipFill>
          <a:blip r:embed="rId1"/>
          <a:stretch/>
        </p:blipFill>
        <p:spPr>
          <a:xfrm>
            <a:off x="179280" y="3573360"/>
            <a:ext cx="210528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orpheus_1"/>
          <p:cNvPicPr/>
          <p:nvPr/>
        </p:nvPicPr>
        <p:blipFill>
          <a:blip r:embed="rId2"/>
          <a:stretch/>
        </p:blipFill>
        <p:spPr>
          <a:xfrm>
            <a:off x="5364000" y="3500280"/>
            <a:ext cx="2303640" cy="30308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14482"/>
          <p:cNvPicPr/>
          <p:nvPr/>
        </p:nvPicPr>
        <p:blipFill>
          <a:blip r:embed="rId3"/>
          <a:stretch/>
        </p:blipFill>
        <p:spPr>
          <a:xfrm>
            <a:off x="2484360" y="3429000"/>
            <a:ext cx="2592360" cy="2521080"/>
          </a:xfrm>
          <a:prstGeom prst="rect">
            <a:avLst/>
          </a:prstGeom>
          <a:ln w="0">
            <a:noFill/>
          </a:ln>
        </p:spPr>
      </p:pic>
      <p:pic>
        <p:nvPicPr>
          <p:cNvPr id="334" name="244.mp3" descr=""/>
          <p:cNvPicPr/>
          <p:nvPr/>
        </p:nvPicPr>
        <p:blipFill>
          <a:blip r:embed="rId4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24000" y="2360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нтичные образы – это  жизнь мифологических и реальных человеческих характеров, которые рождаются и умирают, любят и ненавидят, радуются и печалят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х преследует судьбоносный рок, что является важнейшим достижением  культуры древнего мир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7" name="Picture 4" descr="af-teatr"/>
          <p:cNvPicPr/>
          <p:nvPr/>
        </p:nvPicPr>
        <p:blipFill>
          <a:blip r:embed="rId3"/>
          <a:stretch/>
        </p:blipFill>
        <p:spPr>
          <a:xfrm>
            <a:off x="4140360" y="260280"/>
            <a:ext cx="3024000" cy="2087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FB07-4560"/>
          <p:cNvPicPr/>
          <p:nvPr/>
        </p:nvPicPr>
        <p:blipFill>
          <a:blip r:embed="rId4"/>
          <a:stretch/>
        </p:blipFill>
        <p:spPr>
          <a:xfrm>
            <a:off x="3780000" y="4437000"/>
            <a:ext cx="3744720" cy="2165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225"/>
          <p:cNvPicPr/>
          <p:nvPr/>
        </p:nvPicPr>
        <p:blipFill>
          <a:blip r:embed="rId5"/>
          <a:stretch/>
        </p:blipFill>
        <p:spPr>
          <a:xfrm>
            <a:off x="755640" y="4869000"/>
            <a:ext cx="2305080" cy="1838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1061851"/>
          <p:cNvPicPr/>
          <p:nvPr/>
        </p:nvPicPr>
        <p:blipFill>
          <a:blip r:embed="rId6"/>
          <a:stretch/>
        </p:blipFill>
        <p:spPr>
          <a:xfrm>
            <a:off x="250920" y="189000"/>
            <a:ext cx="2047680" cy="223200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аследие  античного искусств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-828720" y="6858000"/>
            <a:ext cx="127461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4" name="Picture 6" descr="аид"/>
          <p:cNvPicPr/>
          <p:nvPr/>
        </p:nvPicPr>
        <p:blipFill>
          <a:blip r:embed="rId1"/>
          <a:stretch/>
        </p:blipFill>
        <p:spPr>
          <a:xfrm>
            <a:off x="179280" y="1413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аида"/>
          <p:cNvPicPr/>
          <p:nvPr/>
        </p:nvPicPr>
        <p:blipFill>
          <a:blip r:embed="rId2"/>
          <a:stretch/>
        </p:blipFill>
        <p:spPr>
          <a:xfrm>
            <a:off x="5940360" y="3716280"/>
            <a:ext cx="1619280" cy="2467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ariadna"/>
          <p:cNvPicPr/>
          <p:nvPr/>
        </p:nvPicPr>
        <p:blipFill>
          <a:blip r:embed="rId3"/>
          <a:stretch/>
        </p:blipFill>
        <p:spPr>
          <a:xfrm>
            <a:off x="3492360" y="3573360"/>
            <a:ext cx="2303640" cy="3024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untitled"/>
          <p:cNvPicPr/>
          <p:nvPr/>
        </p:nvPicPr>
        <p:blipFill>
          <a:blip r:embed="rId4"/>
          <a:stretch/>
        </p:blipFill>
        <p:spPr>
          <a:xfrm>
            <a:off x="4140360" y="1413000"/>
            <a:ext cx="3527280" cy="1973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0" descr="3"/>
          <p:cNvPicPr/>
          <p:nvPr/>
        </p:nvPicPr>
        <p:blipFill>
          <a:blip r:embed="rId5"/>
          <a:stretch/>
        </p:blipFill>
        <p:spPr>
          <a:xfrm>
            <a:off x="0" y="4076640"/>
            <a:ext cx="3333600" cy="232416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no06_7"/>
          <p:cNvPicPr/>
          <p:nvPr/>
        </p:nvPicPr>
        <p:blipFill>
          <a:blip r:embed="rId1"/>
          <a:stretch/>
        </p:blipFill>
        <p:spPr>
          <a:xfrm>
            <a:off x="250920" y="1052640"/>
            <a:ext cx="3900240" cy="40320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4284720" y="1125360"/>
            <a:ext cx="3529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Авгиевы конюшн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Ахиллесова пят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Содом и Гоморр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Взгляд Горгоны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Танталовы мук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Геростратова слав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Все в Тартарары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Кануло в лету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вод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европейская культура, в том виде, в котором знакомы с ней современные люди во многом обязаны Греко-Римским корня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красочность античной музыкальной культуры, разнообразие и яркость образов, была и осталась вечной школой композиторов и музыкантов                   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музыкальные образы наделены антропоморфизмом, высокой художественностью, искренностью, правдивостью, оказывают большую эстетическую и воспитательную рол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продолжение этой темы мы видим в постановках опер,  оперетт, балетов, мюзиклов и других музыкальных жанров в самых крупных театрах мир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 проведение международных Дельфийских игр, где выступают лучшие творческие лич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4" name="Picture 4" descr="ancient_stringed_instruments_cymbal_musical_2463819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900000" y="189000"/>
            <a:ext cx="2232000" cy="148104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5" descr="Картинка 14 из 57"/>
          <p:cNvPicPr/>
          <p:nvPr/>
        </p:nvPicPr>
        <p:blipFill>
          <a:blip r:embed="rId1"/>
          <a:stretch/>
        </p:blipFill>
        <p:spPr>
          <a:xfrm>
            <a:off x="324000" y="260280"/>
            <a:ext cx="7129440" cy="46576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357" name="Text Box 6"/>
          <p:cNvSpPr/>
          <p:nvPr/>
        </p:nvSpPr>
        <p:spPr>
          <a:xfrm>
            <a:off x="1187280" y="4869000"/>
            <a:ext cx="5472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идоров Денис - вокал (дипломант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ригорьева Анна – изобразительная деятельность (3 место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Наши исследова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7386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нкетирование среди восьмых классо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(53 обучающихся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Что такое античность? - знают 35 челове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кие музыкальные произведения вы знаете?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а этот вопрос ответили всего12 человек, наиболее знакомые произведения – «Спартак», «Клеопатра», «Музы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кие музыкальные произведения вы слушали?-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лушали «Спартак» -6чел., «Орфей и Эвридика» - 4че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Хотели бы посетить театр и посмотреть постановку на античную тему?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–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а- ответили 20 обучающихс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пользуемая литератур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писок литературы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ристотель. Поэтика //Аристотель. Сочинения в 4 т.- М.,1983г.- т. 4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сафьев Б. «Об изучении музыки средневековья». Новое время Л.,198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нфельд М. «Введение в музыкознание» М.,Владос-200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«Всеобщая история зарубежной музыки»-М.,Просвещение,1980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дер И. «Идеи и философии теории человечества»М.,Наука,1977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 Е. «Античное музыкальное мышление»-Л.,1986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Е. «Античная музыкальная педагогика»- Спб.1996г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 Е «Музыка Древней Греции и Рима» -Спб 1995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рубер Р. «Всеобщая история музыки»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.,Музгиз, 1960г,1965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усейнов А. «Античная эстетика» М.,Гардарики-2004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Зальберквит М. « Мир музыки»//Дет. Лит. М.-1988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Келдыш В.Г. «Музыкальный энциклопедический словарь» М.,199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осев А.Ф. «Античная музыкальная эстетика»//Вступит. очерк и собр.текстов М-1960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осев А.Ф. «Вступительная статья»//Плутарх. Морали- М.,196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ертлик Р. «Античные легенды и сказания» -М.199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аркс К. Энгельс Ф. «Сочинения»т 1,12,М.,1958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узыкальная культура древнего мира //Сб. статей под ред.Р.ГубераЛ.1937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ыбакина Е.Уколов В. «Музыка в потоке времени»- М.,198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Юхвидин П. « Мировая художественная культура» М.,Новая школа1996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Цель</a:t>
            </a:r>
            <a:r>
              <a:rPr b="1" i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и задачи работ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ассмотреть истоки античной музыки, описать характерные особенности музыкального искусства и музыкальных образов античного перио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оказать, что человек с древних времен тянулся к  музык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яснить, как «рождались» и «умирали» музыкальные образы и что осталось вечны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10" descr="гемплей музыка"/>
          <p:cNvPicPr/>
          <p:nvPr/>
        </p:nvPicPr>
        <p:blipFill>
          <a:blip r:embed="rId4"/>
          <a:stretch/>
        </p:blipFill>
        <p:spPr>
          <a:xfrm>
            <a:off x="6156360" y="5129280"/>
            <a:ext cx="1676520" cy="1728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img3259_30863"/>
          <p:cNvPicPr/>
          <p:nvPr/>
        </p:nvPicPr>
        <p:blipFill>
          <a:blip r:embed="rId5"/>
          <a:stretch/>
        </p:blipFill>
        <p:spPr>
          <a:xfrm>
            <a:off x="250920" y="189000"/>
            <a:ext cx="1728720" cy="206064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842920" y="907920"/>
            <a:ext cx="6048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Удивительная             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сила  музыка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6" descr="terps"/>
          <p:cNvPicPr/>
          <p:nvPr/>
        </p:nvPicPr>
        <p:blipFill>
          <a:blip r:embed="rId1"/>
          <a:stretch/>
        </p:blipFill>
        <p:spPr>
          <a:xfrm>
            <a:off x="179280" y="836640"/>
            <a:ext cx="2521080" cy="4897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582236_pic_1"/>
          <p:cNvPicPr/>
          <p:nvPr/>
        </p:nvPicPr>
        <p:blipFill>
          <a:blip r:embed="rId2"/>
          <a:stretch/>
        </p:blipFill>
        <p:spPr>
          <a:xfrm>
            <a:off x="3564000" y="3017880"/>
            <a:ext cx="3744720" cy="336384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71182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Рим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Греция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4" descr="no4_30"/>
          <p:cNvPicPr/>
          <p:nvPr/>
        </p:nvPicPr>
        <p:blipFill>
          <a:blip r:embed="rId1"/>
          <a:stretch/>
        </p:blipFill>
        <p:spPr>
          <a:xfrm>
            <a:off x="755640" y="1773360"/>
            <a:ext cx="6265800" cy="4559040"/>
          </a:xfrm>
          <a:prstGeom prst="rect">
            <a:avLst/>
          </a:prstGeom>
          <a:ln w="0">
            <a:noFill/>
          </a:ln>
        </p:spPr>
      </p:pic>
      <p:sp>
        <p:nvSpPr>
          <p:cNvPr id="220" name="WordArt 8"/>
          <p:cNvSpPr txBox="1"/>
          <p:nvPr/>
        </p:nvSpPr>
        <p:spPr>
          <a:xfrm>
            <a:off x="2484360" y="549360"/>
            <a:ext cx="302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нтич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узыкально-драматические        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 представления  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Picture 18" descr="medic_21_%D0%9E%D1%80%D1%84%D0%B5%D0%B9"/>
          <p:cNvPicPr/>
          <p:nvPr/>
        </p:nvPicPr>
        <p:blipFill>
          <a:blip r:embed="rId1"/>
          <a:stretch/>
        </p:blipFill>
        <p:spPr>
          <a:xfrm>
            <a:off x="324000" y="1601640"/>
            <a:ext cx="7173720" cy="52563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ancient_12"/>
          <p:cNvPicPr/>
          <p:nvPr/>
        </p:nvPicPr>
        <p:blipFill>
          <a:blip r:embed="rId1">
            <a:lum bright="-6000"/>
          </a:blip>
          <a:stretch/>
        </p:blipFill>
        <p:spPr>
          <a:xfrm rot="18535200">
            <a:off x="3639960" y="3584520"/>
            <a:ext cx="2232000" cy="1990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ancient_stringed_instruments_cymbal_musical_2463819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900000" y="189000"/>
            <a:ext cx="1368360" cy="907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105[1]"/>
          <p:cNvPicPr/>
          <p:nvPr/>
        </p:nvPicPr>
        <p:blipFill>
          <a:blip r:embed="rId3">
            <a:lum bright="-24000"/>
          </a:blip>
          <a:srcRect l="0" t="0" r="0" b="12114"/>
          <a:stretch/>
        </p:blipFill>
        <p:spPr>
          <a:xfrm>
            <a:off x="2124000" y="3500280"/>
            <a:ext cx="1587600" cy="1727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кифара"/>
          <p:cNvPicPr/>
          <p:nvPr/>
        </p:nvPicPr>
        <p:blipFill>
          <a:blip r:embed="rId4"/>
          <a:stretch/>
        </p:blipFill>
        <p:spPr>
          <a:xfrm>
            <a:off x="2916360" y="404640"/>
            <a:ext cx="2057400" cy="2936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rbaydr56"/>
          <p:cNvPicPr/>
          <p:nvPr/>
        </p:nvPicPr>
        <p:blipFill>
          <a:blip r:embed="rId5">
            <a:lum bright="-18000"/>
          </a:blip>
          <a:srcRect l="0" t="0" r="0" b="18017"/>
          <a:stretch/>
        </p:blipFill>
        <p:spPr>
          <a:xfrm>
            <a:off x="1908000" y="5373720"/>
            <a:ext cx="2592720" cy="129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Instrument06"/>
          <p:cNvPicPr/>
          <p:nvPr/>
        </p:nvPicPr>
        <p:blipFill>
          <a:blip r:embed="rId6"/>
          <a:stretch/>
        </p:blipFill>
        <p:spPr>
          <a:xfrm>
            <a:off x="179280" y="1125360"/>
            <a:ext cx="2665440" cy="181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Арфа"/>
          <p:cNvPicPr/>
          <p:nvPr/>
        </p:nvPicPr>
        <p:blipFill>
          <a:blip r:embed="rId7"/>
          <a:stretch/>
        </p:blipFill>
        <p:spPr>
          <a:xfrm>
            <a:off x="5148360" y="404640"/>
            <a:ext cx="2519280" cy="2487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P6a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6012000" y="3500280"/>
            <a:ext cx="1461960" cy="3167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" descr="P6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324000" y="3357720"/>
            <a:ext cx="1400040" cy="30240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muses01"/>
          <p:cNvPicPr/>
          <p:nvPr/>
        </p:nvPicPr>
        <p:blipFill>
          <a:blip r:embed="rId1"/>
          <a:stretch/>
        </p:blipFill>
        <p:spPr>
          <a:xfrm>
            <a:off x="395280" y="620640"/>
            <a:ext cx="1612800" cy="2879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germes_afrodita_[1]"/>
          <p:cNvPicPr/>
          <p:nvPr/>
        </p:nvPicPr>
        <p:blipFill>
          <a:blip r:embed="rId2"/>
          <a:stretch/>
        </p:blipFill>
        <p:spPr>
          <a:xfrm>
            <a:off x="2268360" y="404640"/>
            <a:ext cx="2848320" cy="3797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dance"/>
          <p:cNvPicPr/>
          <p:nvPr/>
        </p:nvPicPr>
        <p:blipFill>
          <a:blip r:embed="rId3"/>
          <a:stretch/>
        </p:blipFill>
        <p:spPr>
          <a:xfrm>
            <a:off x="395280" y="4292640"/>
            <a:ext cx="3816360" cy="2370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школы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4500720" y="4276800"/>
            <a:ext cx="3203280" cy="2406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школа"/>
          <p:cNvPicPr/>
          <p:nvPr/>
        </p:nvPicPr>
        <p:blipFill>
          <a:blip r:embed="rId5"/>
          <a:stretch/>
        </p:blipFill>
        <p:spPr>
          <a:xfrm>
            <a:off x="5219640" y="836640"/>
            <a:ext cx="2592360" cy="19620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Claude_Lorrain_Apollo_Muses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132000" y="3357720"/>
            <a:ext cx="4675320" cy="3360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sca081"/>
          <p:cNvPicPr/>
          <p:nvPr/>
        </p:nvPicPr>
        <p:blipFill>
          <a:blip r:embed="rId2"/>
          <a:stretch/>
        </p:blipFill>
        <p:spPr>
          <a:xfrm>
            <a:off x="179280" y="260280"/>
            <a:ext cx="4608720" cy="3068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apolon1"/>
          <p:cNvPicPr/>
          <p:nvPr/>
        </p:nvPicPr>
        <p:blipFill>
          <a:blip r:embed="rId3"/>
          <a:stretch/>
        </p:blipFill>
        <p:spPr>
          <a:xfrm>
            <a:off x="468360" y="3573360"/>
            <a:ext cx="1558800" cy="2951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b1397"/>
          <p:cNvPicPr/>
          <p:nvPr/>
        </p:nvPicPr>
        <p:blipFill>
          <a:blip r:embed="rId4">
            <a:lum bright="-6000"/>
          </a:blip>
          <a:srcRect l="7169" t="31112" r="7169" b="31112"/>
          <a:stretch/>
        </p:blipFill>
        <p:spPr>
          <a:xfrm>
            <a:off x="4932360" y="549360"/>
            <a:ext cx="2735280" cy="18716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6:09:57Z</dcterms:created>
  <dc:creator>Домашний</dc:creator>
  <dc:description/>
  <dc:language>en-US</dc:language>
  <cp:lastModifiedBy>LEGION</cp:lastModifiedBy>
  <dcterms:modified xsi:type="dcterms:W3CDTF">2015-04-02T06:51:44Z</dcterms:modified>
  <cp:revision>91</cp:revision>
  <dc:subject/>
  <dc:title>Античные образы в музыкальной культуре</dc:title>
</cp:coreProperties>
</file>